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B56-03E1-4711-A143-4B2C1D2C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69D-9A30-4FFD-84E7-898B145B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B0F-F168-4BA4-BF2E-A9C2E119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97D-7535-40D3-84E3-30FDB6B6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18D-A277-4F49-883C-AAEBF255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465-730C-4A68-88D1-6744365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D08-962C-4CFB-BA24-7E3B146D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7B0-E7D4-4E0F-A421-48640F01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960-A02A-43E5-9846-83342C8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D19-5815-44ED-8959-56EAE32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1D7-E9CD-4365-8E62-DDDCFD7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6B6-092B-4100-8E09-D603008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D780-86CD-4646-B2D7-F31CFAFB6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8900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¿Cómo se originó el agua en nuestro “Planeta Azul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472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89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os cometas están formados casi en su totalidad por hi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170028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lgunos penetran en nuestra atmósfera y se fun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86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os científicos estiman que el 14% del agua terrestre procede de esta “lluvia” continua de comet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3440" y="2708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3716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sí pues, el 14% del agua tiene origen extraterrest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319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530064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¿Y el resto?. Veámoslo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6520" y="620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260280"/>
            <a:ext cx="784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w Cen MT Condensed Extra Bold"/>
              </a:rPr>
              <a:t>Los científicos piensan que la Tierra era un planeta muy caliente cuando se form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65300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La Tierra fue enfriándose poco a poco, pero al principio la actividad volcánica era muy alta en todo el plane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60280"/>
            <a:ext cx="827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Los volcanes emiten v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gases, entre ellos vapor de 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w Cen MT Condensed Extra Bold"/>
              </a:rPr>
              <a:t>Los volcanes emiten varios gases, entre ellos vapor de 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2000" cy="4854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3500280"/>
            <a:ext cx="534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por de agua y gases emitidos por el volcán Kilawea (Hawa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Cuando la Tierra se enfrió más, pudo empezar a condensarse el agua, que al principio sólo estaba en estado de vap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573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¿Te acuer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ENSACIÓN: es el cambio de estado, de gaseoso a líq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6450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por de agua (g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71628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gua líq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condens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4365720"/>
            <a:ext cx="2808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7291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5680" y="40428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w Cen MT Condensed Extra Bold"/>
              </a:rPr>
              <a:t>Se formaron así los primitivos océ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720" y="1989000"/>
            <a:ext cx="874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Millones de años después surgió la primera vida en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10-02-12T18:44:36Z</dcterms:modified>
  <cp:revision>408</cp:revision>
  <dc:subject/>
  <dc:title>Diapositiva 1</dc:title>
</cp:coreProperties>
</file>